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8.png" ContentType="image/png"/>
  <Override PartName="/ppt/media/Laser.wav" ContentType="audio/x-wav"/>
  <Override PartName="/ppt/media/image9.wmf" ContentType="image/x-wmf"/>
  <Override PartName="/ppt/media/image14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Ricochet.wav" ContentType="audio/x-wav"/>
  <Override PartName="/ppt/media/Applause.wav" ContentType="audio/x-wav"/>
  <Override PartName="/ppt/media/image12.wmf" ContentType="image/x-wmf"/>
  <Override PartName="/ppt/media/image1.wmf" ContentType="image/x-wmf"/>
  <Override PartName="/ppt/media/image4.wmf" ContentType="image/x-wmf"/>
  <Override PartName="/ppt/media/CashReg.wav" ContentType="audio/x-wav"/>
  <Override PartName="/ppt/media/image2.wmf" ContentType="image/x-wmf"/>
  <Override PartName="/ppt/media/image3.wmf" ContentType="image/x-wmf"/>
  <Override PartName="/ppt/media/image13.wmf" ContentType="image/x-wmf"/>
  <Override PartName="/ppt/media/image5.png" ContentType="image/png"/>
  <Override PartName="/ppt/media/Explode.wav" ContentType="audio/x-wav"/>
  <Override PartName="/ppt/media/GunShot.wav" ContentType="audio/x-wav"/>
  <Override PartName="/ppt/media/image6.png" ContentType="image/pn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9F50-E377-4B35-BF2B-2A427301AB3B}" type="slidenum"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50AE-61FB-4689-B5D7-D62A437DFE4C}" type="slidenum">
              <a:rPr b="0" lang="cy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C73B-3B37-44AC-920F-8811B9A9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3DC6-C499-4090-9218-B321EF0E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ECE5-B10C-44B3-8168-6BAA25B4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767F-224A-4CD8-9AD6-035B2008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D52B-1D52-4F4D-B204-EC516FC0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E3D6-358B-4A8B-9810-D206CDCE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D3CF-691E-4F2F-B975-7B747CAC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CE62-7057-480F-9B58-62FE3958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6A3F-F599-444C-B9A9-6362D3A9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7C66-B0E6-4C2D-B800-E574EE50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D0FA-330B-43F2-AC22-1A8FBCCF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2D33-D067-4B8C-9DB2-488D421A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FA54-857C-41F0-85BD-F1A89094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7B03-19B4-422A-AACB-ED07722C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D8EB-B7EA-4647-AF91-12B10941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0737-E8AA-453C-B367-192697C1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8A9C-80E9-427E-A0AC-7BB43C430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017C-C2AF-4B5A-A062-F54953CD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6A78-DF54-4484-9161-7F0F8792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7AB3-27F7-4A22-BACE-1212A42B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4AF3-02AB-4A02-8095-DBA58EDC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05A1-1D7A-4388-9E65-F69BDC4A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36B9-FB53-4460-8FAC-893EC061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5BFE-F2ED-4959-A4DE-3E0D6EDE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DEFF-62EA-4689-9144-4768F85D6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F187-6CB6-495A-8D2C-4B03BF02855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audio" Target="../media/Ricochet.wav"/><Relationship Id="rId8" Type="http://schemas.openxmlformats.org/officeDocument/2006/relationships/audio" Target="../media/GunShot.wav"/><Relationship Id="rId9" Type="http://schemas.openxmlformats.org/officeDocument/2006/relationships/audio" Target="../media/Explode.wav"/><Relationship Id="rId10" Type="http://schemas.openxmlformats.org/officeDocument/2006/relationships/audio" Target="../media/Laser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…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nodir prif ddiben busnes mewn…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ffffcc"/>
                </a:solidFill>
                <a:latin typeface="Times New Roman"/>
              </a:rPr>
              <a:t>Datganiad cenhadaeth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2895480" y="3505320"/>
            <a:ext cx="3505320" cy="3082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5400" spc="-1" strike="noStrike">
                <a:solidFill>
                  <a:srgbClr val="ffcc66"/>
                </a:solidFill>
                <a:latin typeface="Times New Roman"/>
              </a:rPr>
              <a:t>Nodau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1" name="Object 3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3714480" cy="41148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Nodau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…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Ym myd busnes fel arfer y prif nodau y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Goroesi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Gwneud yr elw mwyaf posibl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Tyfu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Mae gan lawer o fusnesau rai neu bob un o’r nodau canlynol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…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205740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gwneud el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darparu nwyddau a gwasanaethau i’r gymuned le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goroes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ehangu (gweler y cyflwyniad ppt ar dyfu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gwerthu cymaint ag sy’n bosib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gwella ansawdd y cynnyr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gwella ansawdd y gwasanae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darparu gwasanaeth cystadleuol iaw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darparu gwasanaeth elusenn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darparu gwasanaeth gwirfodd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bod yn ecogyfeillg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Nod British Airway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bod yn ddewis cyntaf o blith cwmnïau hedfan mewn marchnadoedd allweddo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Object 4" descr=""/>
          <p:cNvPicPr/>
          <p:nvPr/>
        </p:nvPicPr>
        <p:blipFill>
          <a:blip r:embed="rId1"/>
          <a:stretch/>
        </p:blipFill>
        <p:spPr>
          <a:xfrm>
            <a:off x="3203640" y="4240080"/>
            <a:ext cx="2881080" cy="1922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Amcan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Object 3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4191120" cy="3587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Mae modd mesur amcanion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..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Mae angen i fusnes nodi targedau ymarferol penodol mae angen iddo eu cyrraedd er mwy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cyflawni ei nodau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Object 4" descr=""/>
          <p:cNvPicPr/>
          <p:nvPr/>
        </p:nvPicPr>
        <p:blipFill>
          <a:blip r:embed="rId1"/>
          <a:stretch/>
        </p:blipFill>
        <p:spPr>
          <a:xfrm>
            <a:off x="6172200" y="4495680"/>
            <a:ext cx="2438280" cy="1992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914400" y="4800600"/>
            <a:ext cx="4419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AMCANION </a:t>
            </a:r>
            <a:r>
              <a:rPr b="0" lang="cy-GB" sz="3800" spc="-1" strike="noStrike">
                <a:solidFill>
                  <a:srgbClr val="ffffcc"/>
                </a:solidFill>
                <a:latin typeface="Times New Roman"/>
              </a:rPr>
              <a:t>yw’r enw ar y rhain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Caiff amcanion eu meintioli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..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Fel y gellir mesur llwyddiant yn hawdd</a:t>
            </a: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E.e. gallai British Airways fod ag amcan</a:t>
            </a: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 “</a:t>
            </a: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i gynyddu nifer y tocynnau awyr sy’n cael eu gwerthu i deithwyr busnes 5% y flwyddyn yn Ewrop”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Nodau ac Amcanion –</a:t>
            </a:r>
            <a:br>
              <a:rPr sz="4400"/>
            </a:b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y gwahaniaethau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Nodau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yn bethau hirdym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yn fwy goddrych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heb fod yn hawdd eu mesu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Amcanio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yn bethau tymor by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yn fwy gwrthrych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yn hawdd eu mesu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CAMP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Amcanio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6000" spc="-1" strike="noStrike">
                <a:solidFill>
                  <a:srgbClr val="ffcc66"/>
                </a:solidFill>
                <a:latin typeface="Times New Roman"/>
              </a:rPr>
              <a:t>AMCANION CAMPUS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cyraeddadw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A               amsero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mesuradw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penodo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U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uchelgeisio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synhwyro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Object 4" descr=""/>
          <p:cNvPicPr/>
          <p:nvPr/>
        </p:nvPicPr>
        <p:blipFill>
          <a:blip r:embed="rId1"/>
          <a:stretch/>
        </p:blipFill>
        <p:spPr>
          <a:xfrm>
            <a:off x="2962440" y="177480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156" name="Object 5" descr=""/>
          <p:cNvPicPr/>
          <p:nvPr/>
        </p:nvPicPr>
        <p:blipFill>
          <a:blip r:embed="rId2"/>
          <a:stretch/>
        </p:blipFill>
        <p:spPr>
          <a:xfrm>
            <a:off x="2962440" y="246852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6" descr=""/>
          <p:cNvPicPr/>
          <p:nvPr/>
        </p:nvPicPr>
        <p:blipFill>
          <a:blip r:embed="rId3"/>
          <a:stretch/>
        </p:blipFill>
        <p:spPr>
          <a:xfrm>
            <a:off x="2959200" y="3106800"/>
            <a:ext cx="685800" cy="587160"/>
          </a:xfrm>
          <a:prstGeom prst="rect">
            <a:avLst/>
          </a:prstGeom>
          <a:ln w="0">
            <a:noFill/>
          </a:ln>
        </p:spPr>
      </p:pic>
      <p:pic>
        <p:nvPicPr>
          <p:cNvPr id="158" name="Object 7" descr=""/>
          <p:cNvPicPr/>
          <p:nvPr/>
        </p:nvPicPr>
        <p:blipFill>
          <a:blip r:embed="rId4"/>
          <a:stretch/>
        </p:blipFill>
        <p:spPr>
          <a:xfrm>
            <a:off x="2959200" y="374652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159" name="Object 8" descr=""/>
          <p:cNvPicPr/>
          <p:nvPr/>
        </p:nvPicPr>
        <p:blipFill>
          <a:blip r:embed="rId5"/>
          <a:stretch/>
        </p:blipFill>
        <p:spPr>
          <a:xfrm>
            <a:off x="2959200" y="434016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160" name="Object 8" descr=""/>
          <p:cNvPicPr/>
          <p:nvPr/>
        </p:nvPicPr>
        <p:blipFill>
          <a:blip r:embed="rId6"/>
          <a:stretch/>
        </p:blipFill>
        <p:spPr>
          <a:xfrm>
            <a:off x="2959200" y="5013360"/>
            <a:ext cx="685800" cy="5875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Datganiadau cenhadaeth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trwy ddarllen datganiad cenhadaeth gallwch ddweu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fel arfer beth mae bus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yn ei wneud mewn gwirionedd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Object 4" descr=""/>
          <p:cNvPicPr/>
          <p:nvPr/>
        </p:nvPicPr>
        <p:blipFill>
          <a:blip r:embed="rId1"/>
          <a:stretch/>
        </p:blipFill>
        <p:spPr>
          <a:xfrm>
            <a:off x="3733920" y="5084640"/>
            <a:ext cx="1758960" cy="1621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Gwerthuso perfformia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Object 3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553000" cy="3706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304920" y="25909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Penderfynu ar y noda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057400" y="8380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Pennu amcan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4724280" y="7621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Gweithio tuag at yr amcan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943600" y="22716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Gwirio’r perfformiad yn rheolaid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6156360" y="3048120"/>
            <a:ext cx="26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000" spc="-1" strike="noStrike">
                <a:solidFill>
                  <a:srgbClr val="ffffcc"/>
                </a:solidFill>
                <a:latin typeface="Times New Roman"/>
              </a:rPr>
              <a:t>Os yw’n anfoddhao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4648320" y="4495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Cymryd camau union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2971800" y="51814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Addasu / adolygu’r amcan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1522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Newid y noda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762120" y="1219320"/>
            <a:ext cx="1218960" cy="1066680"/>
          </a:xfrm>
          <a:custGeom>
            <a:avLst/>
            <a:gdLst>
              <a:gd name="textAreaLeft" fmla="*/ 701280 w 1218960"/>
              <a:gd name="textAreaRight" fmla="*/ 1028880 w 1218960"/>
              <a:gd name="textAreaTop" fmla="*/ 143640 h 1066680"/>
              <a:gd name="textAreaBottom" fmla="*/ 4564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3581280" y="914400"/>
            <a:ext cx="990720" cy="533520"/>
          </a:xfrm>
          <a:prstGeom prst="rightArrow">
            <a:avLst>
              <a:gd name="adj1" fmla="val 50000"/>
              <a:gd name="adj2" fmla="val 46424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AutoShape 15"/>
          <p:cNvSpPr/>
          <p:nvPr/>
        </p:nvSpPr>
        <p:spPr>
          <a:xfrm rot="10878000">
            <a:off x="7238880" y="3504960"/>
            <a:ext cx="1146240" cy="1143000"/>
          </a:xfrm>
          <a:custGeom>
            <a:avLst/>
            <a:gdLst>
              <a:gd name="textAreaLeft" fmla="*/ 659520 w 1146240"/>
              <a:gd name="textAreaRight" fmla="*/ 967320 w 1146240"/>
              <a:gd name="textAreaTop" fmla="*/ 154080 h 1143000"/>
              <a:gd name="textAreaBottom" fmla="*/ 4892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AutoShape 16"/>
          <p:cNvSpPr/>
          <p:nvPr/>
        </p:nvSpPr>
        <p:spPr>
          <a:xfrm rot="10878000">
            <a:off x="5028840" y="4876200"/>
            <a:ext cx="1219320" cy="1143000"/>
          </a:xfrm>
          <a:custGeom>
            <a:avLst/>
            <a:gdLst>
              <a:gd name="textAreaLeft" fmla="*/ 701640 w 1219320"/>
              <a:gd name="textAreaRight" fmla="*/ 1028880 w 1219320"/>
              <a:gd name="textAreaTop" fmla="*/ 154080 h 1143000"/>
              <a:gd name="textAreaBottom" fmla="*/ 4892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AutoShape 18"/>
          <p:cNvSpPr/>
          <p:nvPr/>
        </p:nvSpPr>
        <p:spPr>
          <a:xfrm rot="5493000">
            <a:off x="6857640" y="1066680"/>
            <a:ext cx="1218960" cy="1066680"/>
          </a:xfrm>
          <a:custGeom>
            <a:avLst/>
            <a:gdLst>
              <a:gd name="textAreaLeft" fmla="*/ 701280 w 1218960"/>
              <a:gd name="textAreaRight" fmla="*/ 1028880 w 1218960"/>
              <a:gd name="textAreaTop" fmla="*/ 143640 h 1066680"/>
              <a:gd name="textAreaBottom" fmla="*/ 4564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AutoShape 19"/>
          <p:cNvSpPr/>
          <p:nvPr/>
        </p:nvSpPr>
        <p:spPr>
          <a:xfrm>
            <a:off x="1905120" y="5257800"/>
            <a:ext cx="1143000" cy="609480"/>
          </a:xfrm>
          <a:prstGeom prst="leftArrow">
            <a:avLst>
              <a:gd name="adj1" fmla="val 50000"/>
              <a:gd name="adj2" fmla="val 46884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Text Box 20"/>
          <p:cNvSpPr/>
          <p:nvPr/>
        </p:nvSpPr>
        <p:spPr>
          <a:xfrm>
            <a:off x="2895480" y="251460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Sut i wirio nodau ac amcan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Nodau ac Amcanion Busnesau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0" name="Object 4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3492360" cy="3962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Datganiad cenhadaeth 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Microsof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Mae Bill Gates wedi dweud mai cenhadaeth Microsoft yw…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cymryd y rhyngrwyd, ei chyfuno â meddalwedd gwych a throi hwnnw i mewn i’r offeryn mwyaf pwerus erio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" name="Object 4" descr=""/>
          <p:cNvPicPr/>
          <p:nvPr/>
        </p:nvPicPr>
        <p:blipFill>
          <a:blip r:embed="rId1"/>
          <a:stretch/>
        </p:blipFill>
        <p:spPr>
          <a:xfrm>
            <a:off x="7772400" y="5029200"/>
            <a:ext cx="982800" cy="1447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Datganiadau cenhadaeth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Dylech allu dweud bod Microsoft yn ymwneud â’r rhyngrwyd, cyfrifiaduron a datblygu meddalwedd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Object 5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3429000" cy="22478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Datganiad cenhadaeth</a:t>
            </a:r>
            <a:br>
              <a:rPr sz="4400"/>
            </a:b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British Airway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cy-GB" sz="4400" spc="-1" strike="noStrike">
                <a:solidFill>
                  <a:srgbClr val="ffffcc"/>
                </a:solidFill>
                <a:latin typeface="Times New Roman"/>
              </a:rPr>
              <a:t>yw bod yr arweinydd diamheuol ym maes teithio’r by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4" name="Object 6" descr=""/>
          <p:cNvPicPr/>
          <p:nvPr/>
        </p:nvPicPr>
        <p:blipFill>
          <a:blip r:embed="rId1"/>
          <a:stretch/>
        </p:blipFill>
        <p:spPr>
          <a:xfrm>
            <a:off x="2666880" y="3733920"/>
            <a:ext cx="4496040" cy="2236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Datganiad cenhadaeth</a:t>
            </a:r>
            <a:br>
              <a:rPr sz="4400"/>
            </a:b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British Airway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...o hyn dylech wybod bod 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British Airways yn gweithredu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yn y farchnad deithio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Object 6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200400" cy="4343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7636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Datganiad cenhadaeth</a:t>
            </a:r>
            <a:br>
              <a:rPr sz="4400"/>
            </a:b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British Airway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cy-GB" sz="2800" spc="-1" strike="noStrike">
                <a:solidFill>
                  <a:srgbClr val="ffffcc"/>
                </a:solidFill>
                <a:latin typeface="Times New Roman"/>
              </a:rPr>
              <a:t>ond </a:t>
            </a:r>
            <a:r>
              <a:rPr b="1" lang="cy-GB" sz="2800" spc="-1" strike="noStrike">
                <a:solidFill>
                  <a:srgbClr val="ffffcc"/>
                </a:solidFill>
                <a:latin typeface="Times New Roman"/>
              </a:rPr>
              <a:t>nid yw’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cy-GB" sz="3200" spc="-1" strike="noStrike">
                <a:solidFill>
                  <a:srgbClr val="ffffcc"/>
                </a:solidFill>
                <a:latin typeface="Times New Roman"/>
              </a:rPr>
              <a:t>glir iaw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y-GB" sz="2800" spc="-1" strike="noStrike">
                <a:solidFill>
                  <a:srgbClr val="ffffcc"/>
                </a:solidFill>
                <a:latin typeface="Times New Roman"/>
              </a:rPr>
              <a:t>pa fath o deithio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cc"/>
                </a:solidFill>
                <a:latin typeface="Times New Roman"/>
              </a:rPr>
              <a:t>(ar wahân i’r ffaith bod y gair ‘Airways’ yn enw’r cwmni!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Object 6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2895840" cy="1932120"/>
          </a:xfrm>
          <a:prstGeom prst="rect">
            <a:avLst/>
          </a:prstGeom>
          <a:ln w="0">
            <a:noFill/>
          </a:ln>
        </p:spPr>
      </p:pic>
      <p:pic>
        <p:nvPicPr>
          <p:cNvPr id="123" name="Object 7" descr=""/>
          <p:cNvPicPr/>
          <p:nvPr/>
        </p:nvPicPr>
        <p:blipFill>
          <a:blip r:embed="rId2"/>
          <a:stretch/>
        </p:blipFill>
        <p:spPr>
          <a:xfrm>
            <a:off x="4037040" y="1828800"/>
            <a:ext cx="1928880" cy="4419720"/>
          </a:xfrm>
          <a:prstGeom prst="rect">
            <a:avLst/>
          </a:prstGeom>
          <a:ln w="0">
            <a:noFill/>
          </a:ln>
        </p:spPr>
      </p:pic>
      <p:pic>
        <p:nvPicPr>
          <p:cNvPr id="124" name="Object 8" descr=""/>
          <p:cNvPicPr/>
          <p:nvPr/>
        </p:nvPicPr>
        <p:blipFill>
          <a:blip r:embed="rId3"/>
          <a:stretch/>
        </p:blipFill>
        <p:spPr>
          <a:xfrm>
            <a:off x="6095880" y="4343400"/>
            <a:ext cx="2895840" cy="190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600200" y="30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un peth yw datgan cenhadaeth neu ddibe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 u="sng">
                <a:solidFill>
                  <a:srgbClr val="ffffcc"/>
                </a:solidFill>
                <a:uFillTx/>
                <a:latin typeface="Times New Roman"/>
              </a:rPr>
              <a:t>ond</a:t>
            </a: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 peth aral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yw ei gyflawni</a:t>
            </a: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1"/>
          <a:stretch/>
        </p:blipFill>
        <p:spPr>
          <a:xfrm>
            <a:off x="3429000" y="4038480"/>
            <a:ext cx="2514600" cy="2600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Er mwyn cyflawni ei ddiben, rhaid bod gan fusnes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…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11280" y="3047760"/>
            <a:ext cx="72374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Nodau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cc"/>
                </a:solidFill>
                <a:latin typeface="Times New Roman"/>
              </a:rPr>
              <a:t>y nodau mae’r busnes eisiau eu cyflawn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Amcan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cc"/>
                </a:solidFill>
                <a:latin typeface="Times New Roman"/>
              </a:rPr>
              <a:t>camau ymarferol i gyflawni’r noda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cc"/>
                </a:solidFill>
                <a:latin typeface="Times New Roman"/>
              </a:rPr>
              <a:t>- fel arfer wedi’u meintioli (mae modd eu mesur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10:31:35Z</dcterms:created>
  <dc:creator>Research Machines plc</dc:creator>
  <dc:description/>
  <dc:language>en-US</dc:language>
  <cp:lastModifiedBy> </cp:lastModifiedBy>
  <cp:lastPrinted>2015-05-01T13:06:06Z</cp:lastPrinted>
  <dcterms:modified xsi:type="dcterms:W3CDTF">2015-08-27T12:26:04Z</dcterms:modified>
  <cp:revision>16</cp:revision>
  <dc:subject/>
  <dc:title>The Aims and Objectives of Businesses</dc:title>
</cp:coreProperties>
</file>